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CCF-D204-4444-ACBB-D51C4F14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69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0C5-03F4-4BC8-9FE5-35C3BB88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792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69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7920" y="469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30D-6C92-4EF2-B313-BF6E5F01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3320" y="233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5760" y="233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69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3320" y="469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5760" y="469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AC44-36C5-4AB6-BE5F-BE4F7BC4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9FA-C54B-4A02-9B45-9899EBA0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F7C-BA33-4C34-9E3B-E6215F07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7920" y="2332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9A5-D163-4335-87E0-2A0EB9D3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3B6-78B3-419D-BBB8-C9D494B0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667-5780-4475-85D5-72349D49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7920" y="2332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69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F3F-39B6-40BB-BC3E-7DBABAA9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7920" y="469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B52-BEFE-4C43-B9BB-F84A3C08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7920" y="233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69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02D-E1E1-4604-BA5C-F60745C8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ヒラギノ角ゴ Pro W3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ヒラギノ角ゴ Pro W3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ヒラギノ角ゴ Pro W3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569F-40F8-4A83-884D-2B41FC5F8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228764" dir="18179391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reme He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y Collin Ander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1905120"/>
            <a:ext cx="640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133720"/>
            <a:ext cx="8305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362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Gender is more effected by hot 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 expect that girls will have more reaction because they have more taste bud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teri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4 Boy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4 Gir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 Sau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lastic cups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ater Fountai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ather Materia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ather people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et people drink hot sauce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ate rea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rite resul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1676520"/>
            <a:ext cx="5562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ys             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t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r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rd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r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ls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sa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682560" y="3265200"/>
            <a:ext cx="731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hypothesis was correct and girls have a greater reaction than guys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SD376</cp:lastModifiedBy>
  <cp:lastPrinted>2009-04-22T19:24:48Z</cp:lastPrinted>
  <dcterms:modified xsi:type="dcterms:W3CDTF">2011-02-16T15:15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